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846-BEB9-4094-B37F-BFA253C6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C28-F036-4124-AEFD-7E10EC08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3F9E-4FBC-4045-AF4F-A51AA96A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ED2F1-C75C-4228-AE95-618D161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621E-8096-4193-919F-F606F263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0CD42-AFBF-4916-8BE7-83EA401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8E6A4-6B57-4705-9334-0AABF73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3659D-CE43-4A6D-A0BB-8BBB779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DF04A-A4B3-450D-A3F5-A72ECAB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4C61D-5AE8-453C-8046-E984E225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1766C-AECC-4773-9AF9-EE7CF4E0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1ED7B-49A2-4DD0-9850-BEE96B0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FCF-E4C8-4A67-AF64-ABE06D06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AFDF9-9EAE-4EE3-B968-64C8BAFE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1B99B-E6A9-4EBE-A14E-892B044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80440-03A5-40EA-912B-CE8BE75A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EBBD1-9A74-431F-BB74-1A8DFFD7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D3BA1-2F69-41ED-BE51-A275A105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DDD5F-D4E2-49C8-99AF-6D9AC0A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D803E-69B4-400C-9C5D-0062545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AF7E4-D806-4E44-9018-2D5CE91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72F0C-C6A5-4E50-B5B1-680B2B9F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5A384-DA4C-4F31-83D5-B4A9CDEB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7AF-2FA4-46C8-9F9E-D2F78025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9C04B-1A1F-4D32-9463-543F9583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4E0D1-4383-490D-B8D5-08EAE84A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FF895-9702-4C57-9F80-C257A37D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4327C-BEA2-4D78-844E-C6C96BA5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2F02-0FB0-41AE-9DD4-EA0D7485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BB6FE-EA7E-458F-A68A-041F8AD7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5E226-CB1A-4565-ABBC-3DBA5671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934F5-BF46-4C4C-885C-C79CB6C3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D66A3-37F2-4A04-ABD2-2EA8C3F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26FF9-4838-4CCB-85DC-356125E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20A9-4C36-4E9B-8E12-1D2D7305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6DE4B-9A77-4B72-BB94-8802E593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4D871-D181-4D68-8AA4-C24E8B12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EEFB8-EF2D-4945-8F02-B6021507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AAB94-5E29-4A43-B463-60816582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D02C4-F127-485C-96F9-B0BA3D6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14A96-15B9-4616-B56C-4E2E7445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E0380-B028-438D-96C3-AB4C900B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05CE0-94C2-4D1B-B17C-A6EECCCE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DC637-64A7-4B1A-A876-DC141BDC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5C2F1-789E-4EC7-ADD7-82781D1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1A0-816D-4C5F-8CC4-8675A88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0613C-701E-4CFF-9F26-815D9F8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51653-90C6-4754-972A-2F11D30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A9C81-5CF5-443C-955F-CD9665EF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0AD09-EDD0-44BB-AC38-53FD8D6B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EBF66-F505-42AE-935E-876F69A2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5497D-8531-4891-A0F4-DEE8265C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521E3-683A-4676-994E-354FC0D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7B665-3C45-4DE1-A1C0-558EDD01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DB925-248F-42A4-89FE-6237768C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F7B05-E3FD-4C11-BBBF-55F17198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3DD2-06CF-4077-89FB-1D29AE99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F063A-4419-4994-A7EA-ED7552A4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05831-FBB0-47B3-9991-99EFC69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D33BD-915A-433F-A222-D119E73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0FF34-B1EB-4C51-BBA8-4503C7A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5F3CD-7C94-481C-B53B-1F050571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C98BD-AC83-478A-B1DA-A5001CA1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682B6-F888-4BE0-B67E-9D54B121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B4D99-0065-4BF4-8A63-6A89AAA8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D1C5E-D53D-412B-8EBC-43BC1BA7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340CD-8414-4D44-BC04-3A27DF82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E6FD-9BBB-4DE5-9767-3DDFE34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55179-445A-4007-8138-DBB9F206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53504-21BA-4645-97FD-29EB439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A548F-A4CE-43CF-81CD-176B7B54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F3971-DFBE-483D-9F58-967F0BDD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EC9F0-4E71-43E9-986C-CBA04EC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6CA1F-DF94-4904-9FA7-1B39ED9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29FF0-7184-43E1-9625-380FA1E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6BA7F-217D-460C-B4F6-2E0D97E1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C5286-50BC-4866-97D3-29941C28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90302-D257-4629-98D3-1C34F9B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1F29-5610-411F-828B-99DEBA12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0E4B3-9220-41CE-9D3C-8249BD79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4C864-3400-4BF8-83CC-64B29486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80730-D27A-4B85-A20C-580668F7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8751A-2D99-44E4-9A88-332A340F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D064E-BAAB-413A-9A41-7E2A8D4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3CA98-53B6-4C1F-BDD1-8FDB1AE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BBA38-4801-4AC7-9ED0-3150C84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24E80-E207-4597-9A13-2C72961C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095C1-44AD-466C-8197-503BEDC5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F8070-118A-456E-BDAA-CE8E872E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20FB-0C37-496B-9848-84EA704C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EED78-2D9C-46A8-BFDA-7D50F295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8DBE9-5646-4110-8710-E7957036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9F3B5-1286-4ACA-B62C-0841812B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3EE78-CD36-4D6C-8F72-1D7497D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AE8A8-6BD0-434B-9D1B-A75C3F35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19B50-C21F-46C3-95B0-27B4DD7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CE0DC-D176-49D8-A91A-931C4559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FF7EA-F4EF-4FE3-99D7-3C8AD5B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FE9A8-83B0-4D08-B327-FE18671E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7E2D6-F5A4-44D4-820A-1DFF2D3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9EFC-49CC-444B-954D-DDE1CEC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642B9-E10F-4700-B446-6100FED5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96AB8-C938-4D01-BA59-92E4608F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747A5-5AA6-43DE-B668-56CC0169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C4E53-169A-45F5-91AE-3AB81D4E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D6AD0-5650-4C9B-9BCB-F719D79A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17BCE-40A0-4595-ACB7-C53334A3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572BA-C603-4D75-AC67-469FC76C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C1A69-ED7E-4370-8E52-DD6FDA6F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F778B-4831-4AB4-B28F-64F5EB2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C5C98-C7A9-411A-81F6-97FADCC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445-D76A-42F3-9396-44094EE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9A56-522D-423B-B122-067736C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751E2-36A0-4C78-967C-7695D5C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7A0E3-7FEE-44EA-A482-FC779BB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CE280-68EE-4EFF-9C33-72A7DFD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3941C-10A2-4ED5-8C3B-18C6392C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20007-7C31-4EFF-8E46-0C71EC04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C85DF-CA31-48F3-BB00-8F67881A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CBE3E-CD1E-40C7-AE5B-E6DD725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622B29-F37F-4FB3-8578-63AC99B2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D8EBC-F00E-47D1-9022-E566D48F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8CB357-E95A-4336-9700-24EB20D8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747F-79D3-417B-8F14-48BE3DB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73215-F3BD-465A-8561-6A927666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AA075-0E9F-4AE1-95B7-6EC2D90B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FCF0F-2D87-4767-81DD-80D04AE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14860-3FD8-46ED-903E-CDF7ADE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090B3-5B7D-4ABB-A78C-1B8F7307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03D90-59A7-4FDA-B016-C02A8D68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0A099-B71A-46B3-9F49-02252DBF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45120-3411-4BCB-9A4D-1CF84D0F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70FF0-7E13-4B94-8ED1-B213500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AA5F1-B3C7-46FF-B471-735C365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3F03-6664-4247-9718-9722CE80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7BB96-135D-4B02-95E0-30904482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303BC-901A-4E7E-B364-ECFEC877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ADE31-C029-42F1-959B-F189888B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518BF-5C1D-46C8-A368-91875CF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CD78C-7A00-4B54-9E42-DF58E52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8187BB-AD47-4E9C-9984-19AD636D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B9B45-E080-430A-8F99-93A3C533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55F44-CBEE-41B4-AEE9-C89C8541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9F70C-08A9-4EBF-BE8C-5F6B34B9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40ACB-3EE0-47DD-8489-2711C0BE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04E5-8C4D-4C6E-9ECF-CE703847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68F00-6BFA-4D81-89B0-9FB018F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DE727-2DEB-49E5-B8C1-37304DD8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BD18D-F2F5-4F21-888B-9BEE1B50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C8AEB-B3B4-41ED-B107-137AF3AE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AA0D7-36A0-47DF-B832-275A4084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14292-E86F-4793-9C74-9D8EC75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1B524-D5D1-49EE-8354-371406C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40D70-C0E4-4B27-90A3-172B377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B49D1-9DC3-417D-8D50-39F99225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0EE3C-C614-4156-B616-C8FF5A0A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EFE-C118-4B03-8688-320B632C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CB866-EAF2-4381-B2E9-8D5E1422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11EB43-179B-4892-9BB4-32EACA22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BA179-0451-4522-B8DA-60F40DC3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7D746-E8E2-4624-A583-FDDAF94A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DF666-9D1D-48AA-8F99-0562BF7E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2F684-07CE-42F4-A5E5-4E038284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1C2D6-2A75-4F87-A225-51EE7DF7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6F151-A84A-41BE-96F6-D617A77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A77C6-3071-41AC-9C12-EB10968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50462-54EA-44AA-B314-B72EC42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A3C0-EBCC-425B-B0A4-C05C7517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31C8C-E37F-43CF-A534-7426D03F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A35F5-64AC-4827-8487-00162515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A577E-6493-47DF-AB68-1F3DA3F8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4E22-FC7F-4DC9-A915-F7801B56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84AB-12D1-4424-BBD7-FCF0AA7D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3ACF-EBE1-46C7-B646-49D83CE6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6D70-05D8-4E1A-B22A-C8B55EA2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92B-15C8-4EEE-8B2E-29C0C84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A52C-1110-4BBA-934B-A1571C4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77FA-C287-4370-99C5-647A2D9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8F52-9285-4EDF-BCE6-209FD15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39F5-6237-4A4E-AE7A-D1D8B391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5553-EE46-41AC-9FF6-F0796228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F33B-313A-4A0F-A012-7F37DEE9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040B-3EB0-41A2-899B-9AB105F2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DEE3-2F1B-4135-99B4-CF52D53C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4633-6C43-49DC-BD24-1B61A991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4066-3A6B-4A4B-A691-AEF6DD5C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C16-2D34-44B0-93AD-90128CB2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93C1-567E-4C9D-A55B-3CE45217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CD6E5-7DBE-4B7B-9FEA-4459FA03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79F5-F7D7-4DC3-9196-59655935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2C31-3155-4299-9AB6-589D443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8DEC-E436-4B97-B1FB-705389C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1C337-DE44-4E02-8CA3-526BCE1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83B4-7380-4E9F-AC8D-6FBD351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D200-1355-44B8-A743-F6F90660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90A1-A327-4780-B410-CE8DC794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3CDB-A4D1-4253-8C20-9DBFB7F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49C-1375-4237-8043-54E96885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10968-35E1-4EB8-A6E8-29397719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C828-69C5-4374-AA08-7F8D737C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287CD-4AD6-4E21-ADD9-F9B8283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3258-A0B8-400F-91C0-73AF57FF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2AA2-AFFA-4A95-8F46-C393F515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BF1F-C9E7-4555-892D-29FF6A6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4F42-A014-41AD-B94D-3D77E8E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D3F87-E3C9-460D-B5F0-59183200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71B7-E307-4C7D-A4C4-8012D04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C3ED-A46F-4AFC-A0F1-C43AEE30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8CF-A20E-442C-97FC-E5C12C86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70C5-4966-4B80-8978-34E315B2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E95A6-400A-49E2-A9DB-6DC61F40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7DFA-D48C-438B-9A35-DDC7388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1705-F0E1-4689-A7A2-94B38358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CAEF1-4EC3-41BB-A1D4-2E93305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80358-7BEC-401D-A492-C9D24C2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C0B0-6EA7-4520-973D-975E1A9F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0F1C1-833F-4B49-BF1E-44BD0A9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8E8F-1996-4176-9D2D-BCD18CDA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CE8C0-02D5-41CC-A2EC-D917A56B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F00-2BF0-4BB0-8C80-CC7865F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C5A8-C5FD-4DE7-ADBD-38DB6EE7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34D07-5775-4168-8E40-FA6FE922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A614-9BE3-4157-90A0-1E769C72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0832-CA18-40AC-A633-5C72138B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D52B9-8F9D-4380-98F6-02318CF8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99F40-9B64-4A8C-A5E4-8915E7C5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10CC-1F06-44BF-914F-981FCF15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A3EB-5094-4247-A8AD-610DBD96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0601-10F6-40EE-95D8-C8954C7F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D647B-8F65-44A1-BF64-16205B7D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860-E2F8-4427-8A2A-E05424E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D2AFD-EF9D-461B-A35C-2F785F5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6753D-387E-4D93-ABB5-B33A96A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A974-FFEC-4586-B60F-91F802B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EBC24-115C-403A-938E-34289C29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ADFDE-DACC-48F8-B6BB-D93D8F77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B6AF6-9144-41D9-BD40-14661C6D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17D8-30D6-475F-90BD-3985D396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8A74B-AE1E-4697-9195-C1979491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9C36-4746-43DC-8A8F-16A07A4A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632B6-BE55-4D2A-A5A6-42C4372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E44-C1E5-4476-9470-CC7C8509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0E830-E888-43A8-BB6B-2B185B22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0A5DE-D709-4C6B-83CA-585FA197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50B4B-9EE2-4D76-9046-5913543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E487-779B-4A81-9CD4-E789E105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5AD47-A408-4C33-BAFB-A35CF77F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12C71-0C21-493D-A922-C8865775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DC29A-C715-491B-A451-6B8B6CD1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5C3B9-DDB8-4596-9708-BD9D6444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C91A-1F44-411B-B4D5-98FB25F5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6F228-8905-434B-8348-C47BC31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512-BCF8-40F4-A082-A941E8DF4C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6E9-0F12-42B6-BC7A-B1141D4B4F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10CD-D61C-4645-BDF8-F8196206A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279B-F27F-42D8-B48A-4ADA26601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67E3-EAD3-4568-82B1-DAC994F205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1F6F-045E-4F4D-81E0-E9C6ADB748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FF8-CC6C-4B42-8D34-8C56784A0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F73-5289-4892-A578-4140C140C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9BA-1BD3-49FA-BE89-4B50C9972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E9C2-A278-4EE0-90FB-6B90E2FAB8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E1E-2BDB-426A-B57E-8B1FA224C8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AFF5-2C83-4449-A687-F6114EB522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28D0-0FB9-49FF-A2DC-B9F2C38EBA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B166-6B4F-420F-90A1-18D60CC05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6330-FBB8-4B0D-8E81-4486640157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632A-D445-4302-9B37-75AB2C266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B3B2-2584-4EA7-8BA6-4DFF6769ED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241-818E-4E10-BA5B-36CC02DFA8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045C-40E8-4597-ACE7-2AD9EDBEA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0CA4-C426-481E-9BAD-E40D361B8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9561-715E-4B5E-91DB-CFD0E34B9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2BEA-FC34-4C7E-981C-C7E18ADF02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6C4B-0DBE-4DC0-B091-05D61B65FF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4D88-A17C-44CD-9885-470EEE1FF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FCAD-9273-4999-A2C0-04F45FD4F7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0D7-3346-4FAA-960B-112B0C6F3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2DA0-16E2-4520-9B60-BFEF960F5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DE3E-E99E-4D9E-A939-1EC3E715B1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78A4-7F0F-4EB0-A346-7B44CF3DF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0E50-72C5-416D-82CA-CB61480EF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0964-0D3E-4798-9474-1272182EF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E9A7-9F31-406F-B9A4-385A24032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CC3-312F-41B5-AC1C-27D465336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1CC-F4E5-40AC-B39F-81BB49DABB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3CF3-B4A6-4BE2-BB10-F784315C5E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717-5C30-4D24-AD86-4BC607EEC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A797-E39D-453E-94C5-D2D649626C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7B7B-5663-4EB8-80CE-E290591F40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53A-E3ED-4559-BD90-DE5F57017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06EC-DBF9-492D-99D8-90DCC59B5C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704880" y="3024360"/>
            <a:ext cx="773424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69633" descr=""/>
          <p:cNvPicPr/>
          <p:nvPr/>
        </p:nvPicPr>
        <p:blipFill>
          <a:blip r:embed="rId1"/>
          <a:stretch/>
        </p:blipFill>
        <p:spPr>
          <a:xfrm>
            <a:off x="276120" y="1109520"/>
            <a:ext cx="8591760" cy="463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684360" y="2824200"/>
            <a:ext cx="82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863640" cy="473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1677960" y="3429000"/>
            <a:ext cx="4694400" cy="473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6415200" y="3429000"/>
            <a:ext cx="2477880" cy="473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755640" y="4076640"/>
            <a:ext cx="2952720" cy="473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7"/>
          <a:stretch/>
        </p:blipFill>
        <p:spPr>
          <a:xfrm>
            <a:off x="3708360" y="4062240"/>
            <a:ext cx="5184720" cy="4734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8"/>
          <a:stretch/>
        </p:blipFill>
        <p:spPr>
          <a:xfrm>
            <a:off x="900000" y="4595760"/>
            <a:ext cx="2808360" cy="4730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9"/>
          <a:stretch/>
        </p:blipFill>
        <p:spPr>
          <a:xfrm>
            <a:off x="3708360" y="4624560"/>
            <a:ext cx="2232000" cy="473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0"/>
          <a:stretch/>
        </p:blipFill>
        <p:spPr>
          <a:xfrm>
            <a:off x="6012000" y="4581360"/>
            <a:ext cx="2881080" cy="4734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11"/>
          <a:stretch/>
        </p:blipFill>
        <p:spPr>
          <a:xfrm>
            <a:off x="755640" y="5229360"/>
            <a:ext cx="2521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68609" descr=""/>
          <p:cNvPicPr/>
          <p:nvPr/>
        </p:nvPicPr>
        <p:blipFill>
          <a:blip r:embed="rId1"/>
          <a:stretch/>
        </p:blipFill>
        <p:spPr>
          <a:xfrm>
            <a:off x="247680" y="768240"/>
            <a:ext cx="8648640" cy="5829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8028000" y="206064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8028000" y="378936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67585" descr=""/>
          <p:cNvPicPr/>
          <p:nvPr/>
        </p:nvPicPr>
        <p:blipFill>
          <a:blip r:embed="rId1"/>
          <a:stretch/>
        </p:blipFill>
        <p:spPr>
          <a:xfrm>
            <a:off x="214200" y="1081080"/>
            <a:ext cx="8715600" cy="46958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7956720" y="1052640"/>
            <a:ext cx="936360" cy="473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900000" y="1657440"/>
            <a:ext cx="93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7596360" y="2247840"/>
            <a:ext cx="129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755640" y="2809800"/>
            <a:ext cx="1728720" cy="473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826920" y="3990960"/>
            <a:ext cx="93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8028000" y="4567320"/>
            <a:ext cx="93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8"/>
          <a:stretch/>
        </p:blipFill>
        <p:spPr>
          <a:xfrm>
            <a:off x="611280" y="5141880"/>
            <a:ext cx="3313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66561" descr=""/>
          <p:cNvPicPr/>
          <p:nvPr/>
        </p:nvPicPr>
        <p:blipFill>
          <a:blip r:embed="rId1"/>
          <a:stretch/>
        </p:blipFill>
        <p:spPr>
          <a:xfrm>
            <a:off x="1133640" y="819000"/>
            <a:ext cx="6876720" cy="52200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1619280" y="197496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1619280" y="256536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1763640" y="315612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1474920" y="4925880"/>
            <a:ext cx="6624360" cy="473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1619280" y="5516640"/>
            <a:ext cx="662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65537" descr=""/>
          <p:cNvPicPr/>
          <p:nvPr/>
        </p:nvPicPr>
        <p:blipFill>
          <a:blip r:embed="rId1"/>
          <a:stretch/>
        </p:blipFill>
        <p:spPr>
          <a:xfrm>
            <a:off x="1481040" y="2295360"/>
            <a:ext cx="6181920" cy="2267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1476360" y="2938320"/>
            <a:ext cx="6912000" cy="473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1332000" y="3500280"/>
            <a:ext cx="6912000" cy="473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1332000" y="4091040"/>
            <a:ext cx="6912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64513" descr=""/>
          <p:cNvPicPr/>
          <p:nvPr/>
        </p:nvPicPr>
        <p:blipFill>
          <a:blip r:embed="rId1"/>
          <a:stretch/>
        </p:blipFill>
        <p:spPr>
          <a:xfrm>
            <a:off x="162000" y="560520"/>
            <a:ext cx="8820000" cy="61815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82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682560" y="3429000"/>
            <a:ext cx="1728720" cy="473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2411280" y="3429000"/>
            <a:ext cx="2016360" cy="473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4427640" y="3429000"/>
            <a:ext cx="3168720" cy="473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6"/>
          <a:stretch/>
        </p:blipFill>
        <p:spPr>
          <a:xfrm>
            <a:off x="755640" y="3990960"/>
            <a:ext cx="3168720" cy="4730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7"/>
          <a:stretch/>
        </p:blipFill>
        <p:spPr>
          <a:xfrm>
            <a:off x="539640" y="4581360"/>
            <a:ext cx="8425080" cy="4734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8"/>
          <a:stretch/>
        </p:blipFill>
        <p:spPr>
          <a:xfrm>
            <a:off x="324000" y="5141880"/>
            <a:ext cx="1368360" cy="473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9"/>
          <a:stretch/>
        </p:blipFill>
        <p:spPr>
          <a:xfrm>
            <a:off x="1720800" y="5172120"/>
            <a:ext cx="4219560" cy="473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10"/>
          <a:stretch/>
        </p:blipFill>
        <p:spPr>
          <a:xfrm>
            <a:off x="684360" y="5689440"/>
            <a:ext cx="4219560" cy="4734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11"/>
          <a:stretch/>
        </p:blipFill>
        <p:spPr>
          <a:xfrm>
            <a:off x="611280" y="6265800"/>
            <a:ext cx="6408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63489" descr=""/>
          <p:cNvPicPr/>
          <p:nvPr/>
        </p:nvPicPr>
        <p:blipFill>
          <a:blip r:embed="rId1"/>
          <a:stretch/>
        </p:blipFill>
        <p:spPr>
          <a:xfrm>
            <a:off x="257040" y="1081080"/>
            <a:ext cx="8629920" cy="46958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2"/>
          <a:stretch/>
        </p:blipFill>
        <p:spPr>
          <a:xfrm>
            <a:off x="712800" y="2276640"/>
            <a:ext cx="8388360" cy="4730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3"/>
          <a:stretch/>
        </p:blipFill>
        <p:spPr>
          <a:xfrm>
            <a:off x="611280" y="2824200"/>
            <a:ext cx="3456000" cy="4730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4"/>
          <a:stretch/>
        </p:blipFill>
        <p:spPr>
          <a:xfrm>
            <a:off x="4140360" y="2852640"/>
            <a:ext cx="4752720" cy="473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5"/>
          <a:stretch/>
        </p:blipFill>
        <p:spPr>
          <a:xfrm>
            <a:off x="264960" y="3429000"/>
            <a:ext cx="1224000" cy="4730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6"/>
          <a:stretch/>
        </p:blipFill>
        <p:spPr>
          <a:xfrm>
            <a:off x="1533600" y="3429000"/>
            <a:ext cx="7070760" cy="4730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7"/>
          <a:stretch/>
        </p:blipFill>
        <p:spPr>
          <a:xfrm>
            <a:off x="900000" y="3962520"/>
            <a:ext cx="4967280" cy="4730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8"/>
          <a:stretch/>
        </p:blipFill>
        <p:spPr>
          <a:xfrm>
            <a:off x="5940360" y="3962520"/>
            <a:ext cx="2952720" cy="4730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9"/>
          <a:stretch/>
        </p:blipFill>
        <p:spPr>
          <a:xfrm>
            <a:off x="684360" y="4537080"/>
            <a:ext cx="6119640" cy="4730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10"/>
          <a:stretch/>
        </p:blipFill>
        <p:spPr>
          <a:xfrm>
            <a:off x="6804000" y="4508640"/>
            <a:ext cx="2160720" cy="4730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11"/>
          <a:stretch/>
        </p:blipFill>
        <p:spPr>
          <a:xfrm>
            <a:off x="395280" y="5157720"/>
            <a:ext cx="518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62465" descr=""/>
          <p:cNvPicPr/>
          <p:nvPr/>
        </p:nvPicPr>
        <p:blipFill>
          <a:blip r:embed="rId1"/>
          <a:stretch/>
        </p:blipFill>
        <p:spPr>
          <a:xfrm>
            <a:off x="252360" y="1138320"/>
            <a:ext cx="8639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61441" descr=""/>
          <p:cNvPicPr/>
          <p:nvPr/>
        </p:nvPicPr>
        <p:blipFill>
          <a:blip r:embed="rId1"/>
          <a:stretch/>
        </p:blipFill>
        <p:spPr>
          <a:xfrm>
            <a:off x="1747800" y="1700280"/>
            <a:ext cx="5648400" cy="3457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5905440" cy="4730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1835280" y="2924280"/>
            <a:ext cx="5905440" cy="4730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1979640" y="3357720"/>
            <a:ext cx="5905440" cy="473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5"/>
          <a:stretch/>
        </p:blipFill>
        <p:spPr>
          <a:xfrm>
            <a:off x="1979640" y="4005360"/>
            <a:ext cx="5905440" cy="473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6"/>
          <a:stretch/>
        </p:blipFill>
        <p:spPr>
          <a:xfrm>
            <a:off x="1979640" y="4581360"/>
            <a:ext cx="590544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70657" descr=""/>
          <p:cNvPicPr/>
          <p:nvPr/>
        </p:nvPicPr>
        <p:blipFill>
          <a:blip r:embed="rId1"/>
          <a:stretch/>
        </p:blipFill>
        <p:spPr>
          <a:xfrm>
            <a:off x="1523880" y="1781280"/>
            <a:ext cx="6096240" cy="3295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1547640" y="2305080"/>
            <a:ext cx="6553440" cy="473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1476360" y="2867040"/>
            <a:ext cx="6553080" cy="4730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1763640" y="3443400"/>
            <a:ext cx="6553440" cy="4730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5"/>
          <a:stretch/>
        </p:blipFill>
        <p:spPr>
          <a:xfrm>
            <a:off x="1692360" y="4005360"/>
            <a:ext cx="6553080" cy="473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6"/>
          <a:stretch/>
        </p:blipFill>
        <p:spPr>
          <a:xfrm>
            <a:off x="1692360" y="4653000"/>
            <a:ext cx="6553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09520" y="861840"/>
            <a:ext cx="8724960" cy="5134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8028000" y="263700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8028000" y="436572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14200" y="1628640"/>
            <a:ext cx="8715600" cy="3600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8101080" y="162864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8028000" y="335772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组合 58375"/>
          <p:cNvGrpSpPr/>
          <p:nvPr/>
        </p:nvGrpSpPr>
        <p:grpSpPr>
          <a:xfrm>
            <a:off x="162000" y="765000"/>
            <a:ext cx="8820000" cy="5380200"/>
            <a:chOff x="162000" y="765000"/>
            <a:chExt cx="8820000" cy="5380200"/>
          </a:xfrm>
        </p:grpSpPr>
        <p:pic>
          <p:nvPicPr>
            <p:cNvPr id="1030" name="图片 58373" descr=""/>
            <p:cNvPicPr/>
            <p:nvPr/>
          </p:nvPicPr>
          <p:blipFill>
            <a:blip r:embed="rId1"/>
            <a:stretch/>
          </p:blipFill>
          <p:spPr>
            <a:xfrm>
              <a:off x="162000" y="765000"/>
              <a:ext cx="882000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图片 58374" descr=""/>
            <p:cNvPicPr/>
            <p:nvPr/>
          </p:nvPicPr>
          <p:blipFill>
            <a:blip r:embed="rId2"/>
            <a:stretch/>
          </p:blipFill>
          <p:spPr>
            <a:xfrm>
              <a:off x="684360" y="5516640"/>
              <a:ext cx="6333840" cy="62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8101080" y="206064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8101080" y="4292640"/>
            <a:ext cx="504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7352" descr=""/>
          <p:cNvPicPr/>
          <p:nvPr/>
        </p:nvPicPr>
        <p:blipFill>
          <a:blip r:embed="rId1"/>
          <a:stretch/>
        </p:blipFill>
        <p:spPr>
          <a:xfrm>
            <a:off x="237960" y="1343160"/>
            <a:ext cx="8668080" cy="4171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101080" y="1282680"/>
            <a:ext cx="50472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5003640" y="4925880"/>
            <a:ext cx="2160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6324" descr=""/>
          <p:cNvPicPr/>
          <p:nvPr/>
        </p:nvPicPr>
        <p:blipFill>
          <a:blip r:embed="rId1"/>
          <a:stretch/>
        </p:blipFill>
        <p:spPr>
          <a:xfrm>
            <a:off x="728640" y="838080"/>
            <a:ext cx="7686720" cy="5686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7128000" cy="473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712800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260360" y="4797360"/>
            <a:ext cx="7128000" cy="473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187280" y="5373720"/>
            <a:ext cx="7128000" cy="473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1187280" y="6006960"/>
            <a:ext cx="7128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5300" descr=""/>
          <p:cNvPicPr/>
          <p:nvPr/>
        </p:nvPicPr>
        <p:blipFill>
          <a:blip r:embed="rId1"/>
          <a:stretch/>
        </p:blipFill>
        <p:spPr>
          <a:xfrm>
            <a:off x="285840" y="1909800"/>
            <a:ext cx="8572320" cy="3038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55640" y="3111480"/>
            <a:ext cx="7129440" cy="473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7129440" cy="473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712944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6" descr=""/>
          <p:cNvPicPr/>
          <p:nvPr/>
        </p:nvPicPr>
        <p:blipFill>
          <a:blip r:embed="rId1"/>
          <a:stretch/>
        </p:blipFill>
        <p:spPr>
          <a:xfrm>
            <a:off x="552600" y="1690560"/>
            <a:ext cx="8038800" cy="3476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6227640" y="2290680"/>
            <a:ext cx="2089440" cy="47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900000" y="4019400"/>
            <a:ext cx="6193080" cy="473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826920" y="4638600"/>
            <a:ext cx="6193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1095480" y="1986120"/>
            <a:ext cx="6953040" cy="2885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187280" y="2593800"/>
            <a:ext cx="7272360" cy="473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7272360" cy="473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187280" y="3730680"/>
            <a:ext cx="7272360" cy="473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727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50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